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4008-CBC0-4470-9EB4-9A648C71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FB37-42E2-4C7B-AE5E-8B18574D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8068-7A69-4542-9B20-DB146814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E707-46DC-4DE6-8258-B94E37F0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16FF-5EBE-40CE-9991-75034EEF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DD82-E921-444A-8AE9-BE121C5B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E47A-7C9B-4B6C-8712-95D45355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C66A-62F9-4E89-A051-6236414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09C0-8A0B-4AF0-A656-25B19B7B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EF47-BE13-4770-A9A6-4E7979E1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8A23-F678-4043-8219-C85554F6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6350-BBE6-458A-917D-D86468C0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0982-48B4-42B4-B607-6560EFD7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021E-179D-4206-8593-6B034D1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B403-0B1F-453A-BF32-6FB70E07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52D6-16AD-456B-822A-EE83622F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3123-5911-4AEB-B074-45CD295C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4DF9-69C9-4771-A51A-FA3B369D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C482-F130-4C83-8F70-0AB67A12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51A8-08D7-42F8-A1D4-73068307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F199-DBCA-4B98-BC63-297AE8C8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8166-3CB0-4D9B-9379-69EABF04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13CB-5B31-49A3-8728-4E5F8437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BC08-9DB3-477B-AA2B-8C7579B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15D7-420C-4A8C-A47E-9C4B6ED44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513E-ED61-4033-93D2-D04B177A3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nx.rice.edu/" TargetMode="External"/><Relationship Id="rId2" Type="http://schemas.openxmlformats.org/officeDocument/2006/relationships/hyperlink" Target="http://xml.apache.org/xerces-c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potting and Linking Keywords in CNXM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ladimir Kiri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visor: Prof. Dr. Michael Kohl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: 8 May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for running through the 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– 6 min 15 sec, 228 definitions and 1982 unlinked terms found (441 linked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expensive – building and destroying th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– 20 sec, 0.1 terms per module to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 tree in this case pays back for the first half since the changed tree needs to be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chine: Celeron 850MHz, 256 MB SDRAM, OS: Mandrake Linux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f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1523880"/>
          <a:ext cx="6324480" cy="3829320"/>
        </p:xfrm>
        <a:graphic>
          <a:graphicData uri="http://schemas.openxmlformats.org/drawingml/2006/table">
            <a:tbl>
              <a:tblPr/>
              <a:tblGrid>
                <a:gridCol w="1817640"/>
                <a:gridCol w="285840"/>
                <a:gridCol w="1927080"/>
                <a:gridCol w="289080"/>
                <a:gridCol w="1598400"/>
                <a:gridCol w="4064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metric me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dinal sc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 ch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ed frequency distrib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side val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x pl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er adjacent val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llel box plo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er (of a distributi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stogr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i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requen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-spre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e ch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interv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pendent ev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ative variab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tional prob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pendent variab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ntitative variab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jugate pr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s of meas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o sc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ous variab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ne grap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ative frequen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near relationsh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endent vari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adjacent val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cr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hi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rgis's r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ted parame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-b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me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 out val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mmed me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 polyg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inal sc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hi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dundant entr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0" y="53928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7 redundant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invalid CNXML files – reason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 unique definitions – which ones will be us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ad definition - empty &lt;term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 terms to be updated in the whole database (in 39 modu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x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and easily usable educational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more support and that is the reason for this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definitions log-file can be avoided multiple definitions of the same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approach could be applied to other tags like </a:t>
            </a: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&lt;rul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o be implemented in the next 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ags could be modified for better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9718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1] Connexions: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cnx.rice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2] Xerces: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xml.apache.org/xerces-c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x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nexions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cnx.rice.ed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learning plat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widely used (in IUB so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s web-based document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do with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manage and access the material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urses and modules or simply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NXM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language used for storing data by Connex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gether with MathML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easy writing of scientific data in ML and linking the whole file database dynam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has to be done manually -&gt; error prone and need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to be s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4640" y="1698840"/>
            <a:ext cx="7693920" cy="43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XML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'tbonedef'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T-Bone&lt;/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meaning&gt; "The T-bone steak is cut between 1 and 3 inches thick and comes from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 section of the short loin. This steak is characterized by its T-shape bone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a fine-grained shell and a small tenderloin eye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meaning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xample id='tboneexam'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igure id='tbonefig'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T-Bone Steak&lt;/nam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media type='image/jpeg' src='tbone.jpg'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figur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exampl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XML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e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rc=‘../10255/index.cnxml#tbonedef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T-Bone&lt;/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e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56833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e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src=‘../10255/index.cnxml#tbonedef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T-Bone&lt;/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e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to be s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the connectivity among the modules through &lt;term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rc=‘…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ing for other problems of human origin (e.g. multiple definitions of one term; circular definitions - linked &lt;term&gt; of a definition to another defi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the whol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evelopment easier (keeping list of definitions; automatically updating everyt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two-part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update all the defin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term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wit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ed nodes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definition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ter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a small definitions finder (avoid redef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hot solution updating al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art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) - n number of f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rough all files and ex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th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to the file where the definition i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 of th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data into a lo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p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n*x*m): x - terms per file; m - number of definitions (cons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rough all files and check each found term for a corresponding entry in the definitions file. In case of a match insert the attribute </a:t>
            </a:r>
            <a:r>
              <a:rPr b="0" lang="en-US" sz="2400" spc="-1" strike="noStrike">
                <a:solidFill>
                  <a:srgbClr val="9999cc"/>
                </a:solidFill>
                <a:latin typeface="Arial"/>
              </a:rPr>
              <a:t>s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king to the correct </a:t>
            </a:r>
            <a:r>
              <a:rPr b="0" lang="en-US" sz="2400" spc="-1" strike="noStrike">
                <a:solidFill>
                  <a:srgbClr val="9999cc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ing XM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rces (Apache) – C++ XM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 – build a DOM tree and find the definit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 - build a DOM tree and manipulate its nodes (SAX doesn’t allow mani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because the files are sm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– 170 MB (802 modules – real one has 300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Connexions’ site DT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run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rilov</cp:lastModifiedBy>
  <dcterms:modified xsi:type="dcterms:W3CDTF">2004-05-15T19:08:02Z</dcterms:modified>
  <cp:revision>30</cp:revision>
  <dc:subject/>
  <dc:title>PowerPoint Presentation</dc:title>
</cp:coreProperties>
</file>