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5A99-E448-4958-A1EA-683BE23D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885A-0638-4DC4-933A-B8689108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07A6-85EA-4BE5-967B-FB23CF58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BE7E-7F03-45E3-AD06-0415ADF6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F226-222C-4C63-991E-EE53481C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715B-39FD-43DA-90F8-75D0C150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341F-BE25-4A52-8829-272C0D25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D003-211D-4506-8B98-7575C49A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7D74-5C93-4F03-A24B-283C5983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22CA-1D41-403C-A2DA-2BE5EB05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A846-0391-412E-8C93-7446AB0F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12F0-AF27-473B-80A1-5B7BD2F3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0E4C-F10C-453D-B942-44353494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6125-4F35-4C22-A19E-3E5F6865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77A5-C5DB-48AB-9F9B-E4B3665B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1DC2-89AA-42F7-AA93-4518B9A4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AD18-940B-404E-95D3-DCA424C6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3E1E-5603-4549-B5CA-F4B0E072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1A48A-ECD2-4AAA-9E68-12A4D0E6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26722-34D3-40C3-A75F-07E0A2CB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326E-C528-4598-AA03-DFA8BE1D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FCAB1-094D-46F5-938B-BB160790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3C18-DE20-4118-9C0D-A3CFB02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15A0-FF9B-4965-8931-5B058D31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6A5B-CEFA-4034-9312-6FFED28A1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305D-97A5-4A7B-BDE5-17FBA1751D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brid OMDoc Documents in Softwar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800600" y="5257800"/>
            <a:ext cx="4114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önke Hol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d Research in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ing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: Prof. Dr. Kohl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omdoc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omtex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omtext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UML:Mode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UML:Mode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code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&lt;/code&gt;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&lt;/omdoc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167652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380988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transformation: Transformation specified in a transformation language such as ATL or Q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 transformation: Transformation that is not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Transformations are tra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tion rela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: A transformation relating two elements written in different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ment: A directed transformation from a source to a target that ‘refines the semantic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relations relate text elements that provide any additional information about the modeled system to the corresponding part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limited to text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in UML class diagr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ctic changes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ing empty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ordering unordered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ing position of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changes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a multi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ype of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n attribut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5133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 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: syntactic changes do not propagate along transformation relations, semantic chang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Association End - Changed Multiplicity: The impacted class’s implementation may have to be changed. The impacted invariant and pre/postconditions may be accessing links that no longer exist or may have to be modified to account for the new numbe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ages of the software development can be integrated in OM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OMDoc tools provide sophisticated means to facilitate change management in hybrid OMDoc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OMDoc documents can immensely contribute to the softwar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33512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ization of identified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mdiff on hybrid OMDo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e presentation of hybrid OMDo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to propa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533520"/>
            <a:ext cx="8305920" cy="5867280"/>
          </a:xfrm>
          <a:prstGeom prst="roundRect">
            <a:avLst>
              <a:gd name="adj" fmla="val 16667"/>
            </a:avLst>
          </a:prstGeom>
          <a:solidFill>
            <a:srgbClr val="99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OM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89548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U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289548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Form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9" idx="3"/>
            <a:endCxn id="110" idx="1"/>
          </p:cNvCxnSpPr>
          <p:nvPr/>
        </p:nvCxnSpPr>
        <p:spPr>
          <a:xfrm>
            <a:off x="3428640" y="346680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112" name=""/>
          <p:cNvSpPr/>
          <p:nvPr/>
        </p:nvSpPr>
        <p:spPr>
          <a:xfrm>
            <a:off x="3200400" y="114300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Tex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72428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Sans Serif"/>
              </a:rPr>
              <a:t>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5400000">
            <a:off x="327600" y="3253320"/>
            <a:ext cx="762120" cy="50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114800" y="5867280"/>
            <a:ext cx="762120" cy="5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rot="16200000">
            <a:off x="7871760" y="3177360"/>
            <a:ext cx="761760" cy="50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rot="10800000">
            <a:off x="4038120" y="609120"/>
            <a:ext cx="762120" cy="503280"/>
          </a:xfrm>
          <a:prstGeom prst="rect">
            <a:avLst/>
          </a:prstGeom>
          <a:ln w="0">
            <a:noFill/>
          </a:ln>
        </p:spPr>
      </p:pic>
      <p:cxnSp>
        <p:nvCxnSpPr>
          <p:cNvPr id="118" name=""/>
          <p:cNvCxnSpPr>
            <a:stCxn id="112" idx="2"/>
            <a:endCxn id="113" idx="0"/>
          </p:cNvCxnSpPr>
          <p:nvPr/>
        </p:nvCxnSpPr>
        <p:spPr>
          <a:xfrm>
            <a:off x="4419360" y="2285640"/>
            <a:ext cx="108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>
            <a:stCxn id="112" idx="1"/>
            <a:endCxn id="109" idx="0"/>
          </p:cNvCxnSpPr>
          <p:nvPr/>
        </p:nvCxnSpPr>
        <p:spPr>
          <a:xfrm flipV="1" rot="10800000">
            <a:off x="2208960" y="1714320"/>
            <a:ext cx="991440" cy="11815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" name=""/>
          <p:cNvCxnSpPr>
            <a:stCxn id="112" idx="3"/>
            <a:endCxn id="110" idx="0"/>
          </p:cNvCxnSpPr>
          <p:nvPr/>
        </p:nvCxnSpPr>
        <p:spPr>
          <a:xfrm>
            <a:off x="5638320" y="1714680"/>
            <a:ext cx="1143720" cy="11815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0" idx="2"/>
            <a:endCxn id="113" idx="3"/>
          </p:cNvCxnSpPr>
          <p:nvPr/>
        </p:nvCxnSpPr>
        <p:spPr>
          <a:xfrm rot="5400000">
            <a:off x="5580720" y="4095360"/>
            <a:ext cx="125820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09" idx="2"/>
            <a:endCxn id="113" idx="1"/>
          </p:cNvCxnSpPr>
          <p:nvPr/>
        </p:nvCxnSpPr>
        <p:spPr>
          <a:xfrm flipH="1" rot="16200000">
            <a:off x="2076120" y="4171320"/>
            <a:ext cx="1258200" cy="9914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object Facility (MO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adopted by the O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layer archite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3: MOF metamodel (meta-meta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2: UML metamodel (meta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1: UML model (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0: specific instance of system (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format for standard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extended for extensions of Z such as Object-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s at representing other formal specification languages as extensions to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40640" cy="5181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d Sequence Diagram View – Added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Cod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DV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odified model version there exists a message that does not exist in the original 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L Expr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::behaviouralElements::collaborations::SequenceDiagram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essage-&gt;selec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s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ew:Message | not self.model.application.original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DiagramView.message-&gt;exists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d:Message | mNew.getIDStr() = mOld.getIDSt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representations of UML and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in Hybrid OMDo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 &amp; 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brid OMDoc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: self-contained structured compositions of information un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Doc Documents: information units in OMDoc dom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 Documents: information units hosted in various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OMDo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semantic mar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formal specification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support: mdiff, stex, panta rh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lations can be identified in hybrid OMDoc docu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 identified relations contribute to change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ML Metadata Interchange (X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adopted by the O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s XML with U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s mapping from MOF compliant models to XML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to UML is referred to as XMI[UM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MI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&lt;XMI.header&gt;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MI.document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/XMI.document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MI.metamodel xmi.name="UML" 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xmi.version="1.4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&lt;/XMI.hea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&lt;XMI.conten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UML:Mod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/UML:Mode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&lt;/XMI.cont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&lt;XMI.extension&gt;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7d"/>
                </a:solidFill>
                <a:latin typeface="Arial"/>
              </a:rPr>
              <a:t>&lt;/XMI.extens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/XMI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program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s between presentation and content of program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23:04:56Z</dcterms:created>
  <dc:creator>Student</dc:creator>
  <dc:description/>
  <dc:language>en-US</dc:language>
  <cp:lastModifiedBy>Student</cp:lastModifiedBy>
  <dcterms:modified xsi:type="dcterms:W3CDTF">2008-05-09T16:27:49Z</dcterms:modified>
  <cp:revision>21</cp:revision>
  <dc:subject/>
  <dc:title>Slide 1</dc:title>
</cp:coreProperties>
</file>